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F53-6716-4635-9489-E482F01C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931-9FF7-46EE-9D9F-245BC0DC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90A-58E0-447E-9374-6FB4D433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801-4A1C-4109-9EA4-1C5DA0F6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F8C7-F92F-4195-A9D7-E94A6EBE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1419-32BC-4F20-89AA-E6D2947E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41EA-15A8-4EB8-B65C-F4C12B87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AFB7-018B-4A49-A3EA-F020301E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22CB-CDBB-445F-BCB2-9EAEEA24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EECE-9EC3-4A90-8DBD-15BA65B6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FF74-9517-4306-AFD1-80C70FFD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230-E1B4-4708-9D6D-FC0ADDDB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0C67-3AE1-4EFC-9F41-773DA8AF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63CB-DA0E-42D3-B807-D1637198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69B4-F19C-4888-A4CA-F940D223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A5EC-845F-4460-99AC-AF1BED1A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D311-CB29-4A76-89F6-7FA74362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4886-F1DF-473D-802A-521F016F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506F7-4967-4F0E-ABCF-73DB46E9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D8035-E0A3-472C-8364-CC4FC2B7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9E456-220D-4CFF-A662-4E699534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CAD3-EE89-455B-9B72-52F7DC05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124-329E-4A8E-A9E6-4B7B41FC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8F8D4-7CCA-4035-9250-96E22BD8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0ADC5-FEAD-4547-995A-D9674CED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2799-3894-46B4-9CBF-9467FBFE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7BB05-3FE5-4AAD-98FB-8001634B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CF907-9472-4447-BBB8-8D839B34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C2CBA-816E-4BDE-90FC-A170D777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155C4-3721-47F6-883E-5969BD95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90BE2-70DA-4082-BDDA-05A4751F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BFD1C-4578-40C6-BFAC-A5A0852C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AD6EE-BF6E-4A85-BEC1-50110186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446-00C8-4B73-8544-C764C24A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5FAC6-3FB6-405F-90AF-D99575F6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4A9A2-5715-408E-8EF4-B0E32201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648EE-E965-4C0B-BABA-B4382742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76411-448C-4A66-875F-BED3338D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3A656-B7FE-429D-B794-35E65719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2621B-489A-4B73-BFF4-39F8ED35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D45B0-7271-45C1-A824-40CF9716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7DD39-E837-4EFF-BA86-3484759C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1384F-46AC-4AAF-8AB1-FD06B39C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E2B1B-3014-4416-BE4C-A69C9047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968-A371-427B-B7B7-4EC12C2F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4481E-64F4-4CFA-8034-ED87BFB8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3DCF1-390C-4715-BE7F-C4DE4AF0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4680A-B2D7-4F90-8331-83551F27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A27A8-43B3-43EF-888D-35274A8D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390DB-7DDA-4B8D-85A3-4091B832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332CF-F5EA-4FF0-94D8-FC455D62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488D8-F82C-4F16-AF6F-820EBB3B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21198-2657-45EC-848F-D4697FD8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6B404-D8D4-4C19-B7DE-8547826F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73208-89FF-43B3-ADCA-DE65B41C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25A-CC2F-493F-AF0E-DF828E9C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E599E-0B49-4A94-960F-22D8AE30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B60-DB8A-419A-9C3B-A69F3CFD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0705-3E81-424A-A03D-61DC84EF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CC6-BD07-4044-A272-47095F2F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B72F-7CB7-4E64-A055-E035EF6BE7A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3278-45A8-4246-8475-6A4A22E071C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3E8E-559E-400E-A7E6-0799C681A00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13B9-321E-4025-938D-C8DFEAA1A3B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515D-D2E7-4E47-8945-12BB3CDF7DC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hyperlink" Target="http://mofa.gov.gh/site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0" y="152280"/>
            <a:ext cx="9144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Sustainable Intensification of Key Farming Systems in the Sudano-Sahelian Zone of West Afric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N. Karbo, F. K. Avornyo, H. K. Dei, B. Alenyorege, E. Osafo, S. Konlan, A. Fa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SIR-ARI, UDS, ILR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CSIR\Local Settings\Temp\Rar$DI00.406\4221308719_7e861369dc.jpg"/>
          <p:cNvPicPr/>
          <p:nvPr/>
        </p:nvPicPr>
        <p:blipFill>
          <a:blip r:embed="rId2"/>
          <a:stretch/>
        </p:blipFill>
        <p:spPr>
          <a:xfrm>
            <a:off x="685800" y="685800"/>
            <a:ext cx="863640" cy="88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6719132809_d02a581715_b.jpg"/>
          <p:cNvPicPr/>
          <p:nvPr/>
        </p:nvPicPr>
        <p:blipFill>
          <a:blip r:embed="rId3"/>
          <a:stretch/>
        </p:blipFill>
        <p:spPr>
          <a:xfrm>
            <a:off x="7162920" y="380880"/>
            <a:ext cx="971280" cy="1041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University for Development Studies logo - All Ghana Data"/>
          <p:cNvPicPr/>
          <p:nvPr/>
        </p:nvPicPr>
        <p:blipFill>
          <a:blip r:embed="rId4"/>
          <a:stretch/>
        </p:blipFill>
        <p:spPr>
          <a:xfrm>
            <a:off x="5181480" y="457200"/>
            <a:ext cx="1067040" cy="961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http://www.knust.edu.gh/images/content/pics/img27052010_135229.gif"/>
          <p:cNvPicPr/>
          <p:nvPr/>
        </p:nvPicPr>
        <p:blipFill>
          <a:blip r:embed="rId5"/>
          <a:stretch/>
        </p:blipFill>
        <p:spPr>
          <a:xfrm>
            <a:off x="228600" y="5410080"/>
            <a:ext cx="457200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Republic of Ghan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5486400"/>
            <a:ext cx="4114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28600" y="685800"/>
            <a:ext cx="8686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Capacity buildin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implement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mprovement in understanding of crop-livestock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Benefited from biometry train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farm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ensitization on protoc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monstration on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28600" y="1066680"/>
            <a:ext cx="8534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stud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monstration on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rop-livestock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228600" y="838080"/>
            <a:ext cx="85345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Dissemin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rmer field visits (75 men and 42 women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eed millers’ visit to project si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mmunity experience-sharing and learning (120 participant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sters distributed (3,000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228600" y="609480"/>
            <a:ext cx="868680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armonization gaps of the protocols due to limited  information on socio-cultural setti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ime and area to cove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naging in the absence of a project vehicl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upport needed by farmers for technology/innovation uptak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ow to sustain the process/interventions – farmers are wondering if we will come bac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228600" y="1219320"/>
            <a:ext cx="84582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Lesson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eam work contributed greatly to the achievem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egional teams required monitoring due to peculiarity of data collection - without which project might have fail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228600" y="762120"/>
            <a:ext cx="853452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Element of long term relationship, commitment and trus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et season intervention is justified particularly for restrained anima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Land is an issue for intensification  - In UER where crops are failing diversifying into livestock production for integration with crops can improve livelihoo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228600" y="533520"/>
            <a:ext cx="8763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Opportuniti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mmunity members are more receptive and are organizing themselves into group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ome feed formulations were promising and this provides an opportunity for scaling up – development of feed marke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New partnerships formed present an opportunity for future collaborations (internal and external partner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228600" y="1143000"/>
            <a:ext cx="868680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esence of milk groups presents an opportunity for the development of the dairy sector in northern Ghan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vailability of synthesized knowledge for uptake – proceedings, repor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orking as a consortium for future projec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609480" y="68580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Perpetu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0" y="762120"/>
            <a:ext cx="914400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Perpetua"/>
              </a:rPr>
              <a:t>ACTIVITIES/OUTPUT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Perpetua"/>
              </a:rPr>
              <a:t>Planning meeting and team form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re team for coordin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Regional teams for coordin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mmittee on planning for Regional workshop, training cours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Areas for protocol development identifi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228600" y="228600"/>
            <a:ext cx="868680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Regional workshop on constraints and opportunities for intensification of integrated crop-livestock system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ceedi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Technologies tested/generated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On-st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lse yam for guinea fowls (8 feed formulation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lse yam fro pigs (9 feed formulations out of which two were promising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C:\Users\DELPHE\Pictures\23-09-2012\DSC00556.JP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152280" y="152280"/>
            <a:ext cx="883944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On-far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eed supplementation under wet season management of small ruminants – 1 promising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orghum spent malt for guinea fowls (cheaper feed formulation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Best-bet technologies in milk hygiene and process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ppropriate pasteurization equipmen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sters on milk hygiene, milk platform, salt wagashi, good wagashi, quesco blanco cheese and yoghur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DSC05820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C:\Users\DELPHE\Pictures\23-09-2012\DSC00570.JPG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Figure 1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wagashibrine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22:14:50Z</dcterms:created>
  <dc:creator>Hp</dc:creator>
  <dc:description/>
  <dc:language>en-US</dc:language>
  <cp:lastModifiedBy>LeBorgne, Ewen (ILRI)</cp:lastModifiedBy>
  <dcterms:modified xsi:type="dcterms:W3CDTF">2012-10-24T12:28:10Z</dcterms:modified>
  <cp:revision>118</cp:revision>
  <dc:subject/>
  <dc:title>Slide 1</dc:title>
</cp:coreProperties>
</file>